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374-3188-479A-81D8-7CC67368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0A5-D6EA-4A26-AA23-E5CA018C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703-6618-46CD-9316-71FB3B4A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1E7-884A-44D9-95C1-8A2D8803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7159-EC81-4D3B-81F0-565A3B32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B200-044C-489F-825A-1E483055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EA25-0892-4C57-B5B2-EFA68C82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1675-B649-4328-9266-B964C81D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09ED-599A-429A-92A0-1853858A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C6ED-0086-412B-BB13-BFBD02EA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5258-A1EF-4C5B-8177-595F411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C37-7D80-4446-ADBC-B8BC5E36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88CD-AA09-4719-BA58-2FA6F28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77F-6A7D-4033-8CA8-73578D9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EC51-3F74-4FD7-82E3-A25C3141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285-1415-4653-8169-963F6042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D79F-AF5B-4F3D-B035-495F22F4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99F2-3EC2-4AFD-90B4-DF73B0BA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C13E-FA86-40BB-A006-7385BBEC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A9B3-9DA7-4DD0-98E0-C38DA295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5635-FB5F-4B2C-B54A-BA6C9B8F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DA2A-8C77-4656-B311-B9E7E0D9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D3E-FC85-4C7D-B893-1134EE9F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39C1-4A19-49C0-8CB9-C2191F5D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55D9-4719-422D-A0C1-343F9928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BCAE-83B2-488A-A44B-CC8BADA0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49DC-0B00-47F3-803D-2159CA1C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938E5-FE84-4606-9B82-1211DC7F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093A-11B6-4F49-8A75-6E5C3ED4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30BE-1926-417F-A796-8F53AF0A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E54B-383A-4E21-B1D3-034B5806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BA63-D8AE-4394-AB83-95743E8D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6885-0899-40F3-A745-99C28B9B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DC2-445E-4AB4-BD97-DC1ACA36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EFB9-5BF5-4A09-B9B8-214D825A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EF68-115D-4448-98A1-8899080E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6C5E-A2D4-4009-9181-2AECCAA1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CBBBB-E5E8-4033-B5C6-7F3EE28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BFDF-E928-4453-AD4F-DDF38127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B207E-1C34-41D5-8AAE-11B76DA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DA17-9532-4958-AEDA-E899742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D40E8-43C3-4909-A603-F3322987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50F3-3983-4164-99D0-0E19C27C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B6BDD-9B38-4B2A-B58D-28099C73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20A-D114-4324-A377-35A0D5AB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6E8D2-8CBD-4B14-82BA-3E2EBBD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01329-4CF6-45E2-B82B-26A8F908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1FA07-E9F5-4BCA-9CD4-3A0CE4F5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BEFD-17A0-4758-9EAD-D64F438A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498B-F306-42B4-9AA6-909C4F64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4BA7A-D60E-48E2-82F7-5C195419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B020-B891-4D82-8761-F5884A6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3832-08DD-482A-B397-D2D9612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C8BA-AE1F-4540-A51C-DD935BA4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362D3-1EB2-4967-935D-4D7F936E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1C8-E0D5-4C12-83DF-A7F17244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DA69-340F-4E7F-B759-276A932F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8C15E-F3A0-40A0-9B51-F596F4E3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0A38E-5A25-4697-96C7-670CA193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ECBE-418B-456F-9861-0D4B2A14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B570-9A7C-4094-B841-9DA14337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98CB8-76D8-4E7E-83D6-533177E7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E5D96-8833-42D1-B9DB-89A7803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B95D-031C-446A-BFC2-DD8ABA02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A292A-68B4-4D08-B34D-B94BBE3C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C5BEE-C4C7-44DB-8789-61FE7846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CDD-3A2D-4917-B527-7B826B5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AC7D7-C529-42DF-BDE4-C317C810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F746F-0A1F-430F-9548-90AA3539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CC6A6-F6C2-40FD-9D99-6BCB5C93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CE8-0CC9-4DED-9654-8806285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07D-367C-45B2-B875-E9F9AB15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4D2D-312D-4244-B8A9-09E7C787487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CF4D-87FB-41E8-BE29-A93AAC4376F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7569-C57E-4F43-9C8B-FBA524F5E0D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078F-1D4D-41D6-9711-2B932BD1BA2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80A9-36EC-4545-A4A8-027BE9BA814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B7FA-CF73-44B4-97F4-1517F9C1A56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0" y="1530360"/>
            <a:ext cx="919944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2"/>
          <a:stretch/>
        </p:blipFill>
        <p:spPr>
          <a:xfrm>
            <a:off x="281160" y="493560"/>
            <a:ext cx="8697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2"/>
          <a:stretch/>
        </p:blipFill>
        <p:spPr>
          <a:xfrm>
            <a:off x="55440" y="333360"/>
            <a:ext cx="9088560" cy="2266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85840" y="2643120"/>
            <a:ext cx="868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- загрязнение воздух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- загрязнение окружающей сред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- шум, вибраци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-выделение тепла (рассеяние энергии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142920" y="1571760"/>
          <a:ext cx="8848800" cy="3643200"/>
        </p:xfrm>
        <a:graphic>
          <a:graphicData uri="http://schemas.openxmlformats.org/drawingml/2006/table">
            <a:tbl>
              <a:tblPr/>
              <a:tblGrid>
                <a:gridCol w="1714320"/>
                <a:gridCol w="1357560"/>
                <a:gridCol w="1428480"/>
                <a:gridCol w="1398600"/>
                <a:gridCol w="1474920"/>
                <a:gridCol w="147492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0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0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0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0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0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втомоб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4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7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0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9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(1)смертность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(2)заболеваемость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(3)физиологически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признаки заболевани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(4)сдвиги жизнедеятельност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организма неизвестног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назначени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(5)накопление загрязнений 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органах и тканя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3"/>
          <a:srcRect l="7337" t="2715" r="13295" b="4072"/>
          <a:stretch/>
        </p:blipFill>
        <p:spPr>
          <a:xfrm>
            <a:off x="357120" y="1571760"/>
            <a:ext cx="39290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2"/>
          <a:stretch/>
        </p:blipFill>
        <p:spPr>
          <a:xfrm>
            <a:off x="281160" y="237960"/>
            <a:ext cx="8697600" cy="1487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3"/>
          <a:stretch/>
        </p:blipFill>
        <p:spPr>
          <a:xfrm>
            <a:off x="285840" y="1571760"/>
            <a:ext cx="6804000" cy="4643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4"/>
          <a:stretch/>
        </p:blipFill>
        <p:spPr>
          <a:xfrm>
            <a:off x="7143840" y="3143160"/>
            <a:ext cx="171432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285840" y="1643040"/>
            <a:ext cx="6207120" cy="4500720"/>
          </a:xfrm>
          <a:prstGeom prst="rect">
            <a:avLst/>
          </a:prstGeom>
          <a:ln w="0">
            <a:noFill/>
          </a:ln>
        </p:spPr>
      </p:pic>
      <p:pic>
        <p:nvPicPr>
          <p:cNvPr id="325" name="Заголовок 1" descr=""/>
          <p:cNvPicPr/>
          <p:nvPr/>
        </p:nvPicPr>
        <p:blipFill>
          <a:blip r:embed="rId3"/>
          <a:stretch/>
        </p:blipFill>
        <p:spPr>
          <a:xfrm>
            <a:off x="133200" y="66600"/>
            <a:ext cx="8944200" cy="14810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4"/>
          <a:stretch/>
        </p:blipFill>
        <p:spPr>
          <a:xfrm>
            <a:off x="6643800" y="3071880"/>
            <a:ext cx="20095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C:\Documents and Settings\Kill@s_CB\Рабочий стол\Рисунок1.png"/>
          <p:cNvPicPr/>
          <p:nvPr/>
        </p:nvPicPr>
        <p:blipFill>
          <a:blip r:embed="rId2"/>
          <a:stretch/>
        </p:blipFill>
        <p:spPr>
          <a:xfrm>
            <a:off x="214200" y="142920"/>
            <a:ext cx="8697960" cy="40780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214200" y="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абсолютное число х 100000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количество населения райо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население района по года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2005 год = 27764 челове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2006 год = 28197 челове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2007 год = 27859 челове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5641920" cy="4857840"/>
          </a:xfrm>
          <a:prstGeom prst="rect">
            <a:avLst/>
          </a:prstGeom>
          <a:ln w="0">
            <a:noFill/>
          </a:ln>
        </p:spPr>
      </p:pic>
      <p:pic>
        <p:nvPicPr>
          <p:cNvPr id="331" name="Заголовок 1" descr=""/>
          <p:cNvPicPr/>
          <p:nvPr/>
        </p:nvPicPr>
        <p:blipFill>
          <a:blip r:embed="rId3"/>
          <a:stretch/>
        </p:blipFill>
        <p:spPr>
          <a:xfrm>
            <a:off x="262080" y="176040"/>
            <a:ext cx="8815320" cy="1122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304920" y="128592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4"/>
          <a:stretch/>
        </p:blipFill>
        <p:spPr>
          <a:xfrm>
            <a:off x="5929200" y="2643120"/>
            <a:ext cx="3017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285480" y="214200"/>
            <a:ext cx="87058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Анализ аварийности на территории Бижбулякского райо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0040" y="785880"/>
          <a:ext cx="7602480" cy="1785960"/>
        </p:xfrm>
        <a:graphic>
          <a:graphicData uri="http://schemas.openxmlformats.org/drawingml/2006/table">
            <a:tbl>
              <a:tblPr/>
              <a:tblGrid>
                <a:gridCol w="1130400"/>
                <a:gridCol w="1001520"/>
                <a:gridCol w="1001880"/>
                <a:gridCol w="723960"/>
                <a:gridCol w="738000"/>
                <a:gridCol w="1001880"/>
                <a:gridCol w="1003320"/>
                <a:gridCol w="1001520"/>
              </a:tblGrid>
              <a:tr h="2667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</a:tr>
              <a:tr h="50616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о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</a:tr>
              <a:tr h="50652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иб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</a:tr>
              <a:tr h="50652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6" name="Rectangle 1"/>
          <p:cNvSpPr/>
          <p:nvPr/>
        </p:nvSpPr>
        <p:spPr>
          <a:xfrm>
            <a:off x="0" y="2572200"/>
            <a:ext cx="914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ский дорожный - транспортный травматизм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00040" y="3000240"/>
          <a:ext cx="7643880" cy="2357640"/>
        </p:xfrm>
        <a:graphic>
          <a:graphicData uri="http://schemas.openxmlformats.org/drawingml/2006/table">
            <a:tbl>
              <a:tblPr/>
              <a:tblGrid>
                <a:gridCol w="2276640"/>
                <a:gridCol w="558720"/>
                <a:gridCol w="557280"/>
                <a:gridCol w="558720"/>
                <a:gridCol w="557280"/>
                <a:gridCol w="558720"/>
                <a:gridCol w="557280"/>
                <a:gridCol w="2019240"/>
              </a:tblGrid>
              <a:tr h="78588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вершено Д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</a:tr>
              <a:tr h="78588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гиб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</a:tr>
              <a:tr h="78588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н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23040" marR="23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688"/>
                        </a:gs>
                        <a:gs pos="100000">
                          <a:srgbClr val="ffecd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7:48:15Z</dcterms:created>
  <dc:creator>Kill@s_CB</dc:creator>
  <dc:description/>
  <dc:language>en-US</dc:language>
  <cp:lastModifiedBy>z</cp:lastModifiedBy>
  <dcterms:modified xsi:type="dcterms:W3CDTF">2009-01-26T16:11:25Z</dcterms:modified>
  <cp:revision>10</cp:revision>
  <dc:subject/>
  <dc:title>Влияние роста числа автотранспорта  на здоровье людей </dc:title>
</cp:coreProperties>
</file>